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363D-5EA4-4E3D-88F8-BB24C8E7D3DC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FD43-DC27-4535-A3D7-F0225C7C195D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5960-BADC-4071-B722-0C2B99F076C9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2610-45AA-4A19-BE0C-6D32B4DE5044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A38C-624D-4A59-A35F-C31D26EB030D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C141-86EA-4216-80F4-85A01A894C80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F8AC-DB3A-40E0-9BBD-8C0045D2BB59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371B-D217-4AD7-8F4E-FA819E794705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8771-7710-40BE-87FB-3DB0370FBA6A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A026-1DE0-482B-BE02-B1932781EE3B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37AE-9B07-4A7B-96CC-17B0D3B28134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B923-BA78-46B2-BC0A-D137E710C6B5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83B8-3A06-4876-AFAB-6033EE08BEA7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8EE9-9333-48AA-8D81-12B3C1EF0B85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AFD4-1B1B-41CB-A4A5-EB6E5810B2F1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0799-2E4A-4306-9F0B-C9B3CB6A5293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C880-4904-4EF5-AD2A-DF3E2DA27A67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B2A6-25F6-4424-8929-55AF8510728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5D22-FFEE-477D-B138-8DBC2DE22148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0889-4EBD-4AD0-8FDA-694C26442AC5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6EA3-0360-46EB-9802-E12127760E6A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7F4D-2878-4D34-B914-2B077340211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6548-EF4B-45DC-A68C-09508E4404D5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33B-F745-44F9-8FB3-4C1A871C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9E1F-34BB-44E3-8C0C-FD2D530E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B43-0FAF-4E4D-BCC4-90C20D90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62E3-725E-4E7A-BE6C-848AE920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80C7-3C01-46D7-9557-E6D888A0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9551-8C9D-4E52-96F1-3B17C6D8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962C-15E9-4F1D-93FD-4736CBB4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E2FC-1DC1-4060-BF81-51B7A54B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5DAA-D5F7-416A-982D-C09E375A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0F3B-BEF1-4AE0-878B-A512B11F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EA89-CD47-4357-94A1-F01ED459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405-EC73-4FBD-BCB5-824DE162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47FB-AF93-4E84-A5EA-F9B5DA32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FBD3-70E8-4787-B0D0-AA7B6841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E378-9FB4-4F6F-ADCA-3DC7DCBE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4ED1-5298-4CD0-B536-1F00ECB7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C2A8-4F80-46F3-91FA-2A965F12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F9D79-1705-424E-A97C-DDF237E5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4CAF28-9F71-48E3-841F-A6C03CA8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C5B04-FD99-445C-8315-F91BC393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8FD4E6-2596-4181-A3AA-0483F897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20B42-3B28-48ED-9992-8533757E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BD3F-2433-422F-89A9-754CEE04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4D790-C1D1-4690-A436-8FB055CD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0DB94-DFF7-46E4-BD14-C2580468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D3B5B-00A5-4A0E-9CEF-6870822F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CFA41-D2BD-4CDB-B26E-7E796BB0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A03CF-8B3E-4726-95E3-7AE67473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E57F7E-2893-4C65-A8B6-C71309FA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4F803-CB6A-45D7-BF0A-BFDBFF68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EC1B8-35BC-4C44-9190-CBA65C1F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4E34D-0AFA-434B-8A20-C92F5DD7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75E9C-01E1-496C-BB82-D6A387AB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6E2F-1D12-4F18-BC6C-4FD68B84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4BE14-1789-4C63-829A-63E5F946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60CFD-95D1-45CF-9818-240AB541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DFA89-6E59-466B-8BAE-E09534C1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DB25C-84B2-440A-B10C-BA1E3B1E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9D48B-988A-48E2-85D1-9684822D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9DCFD-3A9D-4F68-AFB6-0321E74D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398AD-416B-4F0B-A17A-CBE4775A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AD3A1-332C-4724-9FEB-4324A0F5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B8DA4-3D26-4120-8ADE-E8BCD798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53B-A8B7-4800-8E1E-EB8D4B12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E46-D3D5-4BAF-9501-59D2EE05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B24-6A04-4F98-B17E-CEC753DD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212-CC5D-4996-8FE3-08D634CE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A37B-0656-4A75-A624-4DD142F5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298D-5058-4409-948E-2F12AA22041B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직사각형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직사각형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직사각형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모서리가 둥근 직사각형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모서리가 둥근 직사각형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직사각형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직사각형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직사각형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직사각형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AFE9-81FD-4CF6-A090-5A148BF6F587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23A7-CF30-4FD3-A02E-76A1B61490D9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2D1D-7129-4D25-A35E-31EA93929AD2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현대 기술은 모두 첨단 기술인가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현대 기술과 공학의 철학 제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5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0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2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정동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http://www.sebong.co.kr/attach/1/1226325503.jpg"/>
          <p:cNvPicPr/>
          <p:nvPr/>
        </p:nvPicPr>
        <p:blipFill>
          <a:blip r:embed="rId2"/>
          <a:stretch/>
        </p:blipFill>
        <p:spPr>
          <a:xfrm>
            <a:off x="-1116000" y="-6480"/>
            <a:ext cx="10260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파일:Inside of a tin platted can.jpg"/>
          <p:cNvPicPr/>
          <p:nvPr/>
        </p:nvPicPr>
        <p:blipFill>
          <a:blip r:embed="rId2"/>
          <a:stretch/>
        </p:blipFill>
        <p:spPr>
          <a:xfrm>
            <a:off x="0" y="-9360"/>
            <a:ext cx="9156600" cy="68673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4"/>
          <p:cNvSpPr/>
          <p:nvPr/>
        </p:nvSpPr>
        <p:spPr>
          <a:xfrm>
            <a:off x="6756120" y="90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Georgia"/>
              </a:rPr>
              <a:t>양철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http://ojsfile.ohmynews.com/STD_IMG_FILE/2010/0303/IE001171857_ST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4"/>
          <p:cNvSpPr/>
          <p:nvPr/>
        </p:nvSpPr>
        <p:spPr>
          <a:xfrm>
            <a:off x="6881760" y="566100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Georgia"/>
              </a:rPr>
              <a:t>석면 슬레이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4" name="내용 개체 틀 3" descr="판자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517320" y="549360"/>
            <a:ext cx="38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Bidonville 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in Morocco (2007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7" name="내용 개체 틀 6" descr="이바단의 지붕들, 나이지리아.jpg"/>
          <p:cNvPicPr/>
          <p:nvPr/>
        </p:nvPicPr>
        <p:blipFill>
          <a:blip r:embed="rId1"/>
          <a:stretch/>
        </p:blipFill>
        <p:spPr>
          <a:xfrm>
            <a:off x="0" y="-1179360"/>
            <a:ext cx="9144000" cy="9123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http://www.corbisimages.com/Images/spacer.gif"/>
          <p:cNvPicPr/>
          <p:nvPr/>
        </p:nvPicPr>
        <p:blipFill>
          <a:blip r:embed="rId2"/>
          <a:stretch/>
        </p:blipFill>
        <p:spPr>
          <a:xfrm>
            <a:off x="16812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http://www.corbisimages.com/Images/spacer.gif"/>
          <p:cNvPicPr/>
          <p:nvPr/>
        </p:nvPicPr>
        <p:blipFill>
          <a:blip r:embed="rId3"/>
          <a:stretch/>
        </p:blipFill>
        <p:spPr>
          <a:xfrm>
            <a:off x="16812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http://www.corbisimages.com/Images/spacer.gif"/>
          <p:cNvPicPr/>
          <p:nvPr/>
        </p:nvPicPr>
        <p:blipFill>
          <a:blip r:embed="rId4"/>
          <a:stretch/>
        </p:blipFill>
        <p:spPr>
          <a:xfrm>
            <a:off x="168120" y="-136440"/>
            <a:ext cx="9720" cy="9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7"/>
          <p:cNvSpPr/>
          <p:nvPr/>
        </p:nvSpPr>
        <p:spPr>
          <a:xfrm>
            <a:off x="5834160" y="54936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Ibadan, Nigeria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http://www.printplusng.com/images/1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"/>
          <p:cNvSpPr/>
          <p:nvPr/>
        </p:nvSpPr>
        <p:spPr>
          <a:xfrm>
            <a:off x="1116000" y="587700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Roof Tops at Ibadan 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 (2007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크리올 기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(creol technology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판자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력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자전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력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오토력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긴꼬리보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자동차 굴대와 핸들을 이용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당나귀 수레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중국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뒷마당 철강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전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력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동차의 발명 시기는 거의 비슷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전거의 사용 증가는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기 중반 이후의 현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부유한 세계의 기술보다 시간상 뒤쳐진 기술 아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그림:대학생 리포트-베이징의 발, 자전거-1.jpg"/>
          <p:cNvPicPr/>
          <p:nvPr/>
        </p:nvPicPr>
        <p:blipFill>
          <a:blip r:embed="rId2"/>
          <a:stretch/>
        </p:blipFill>
        <p:spPr>
          <a:xfrm>
            <a:off x="324000" y="765000"/>
            <a:ext cx="82566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http://fs.textcube.com/blog/6/69470/attach/XMoHGdndaC.jp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308520" y="6165720"/>
            <a:ext cx="24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Cyclo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, Vietna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http://img.blog.yahoo.co.kr/ybi/1/70/0f/sturmgechutz/folder/86/img_86_2739_5?126985363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4" name="내용 개체 틀 3" descr="2443128544_4389b44aa3_o.jpg"/>
          <p:cNvPicPr/>
          <p:nvPr/>
        </p:nvPicPr>
        <p:blipFill>
          <a:blip r:embed="rId1"/>
          <a:stretch/>
        </p:blipFill>
        <p:spPr>
          <a:xfrm>
            <a:off x="0" y="0"/>
            <a:ext cx="960444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4"/>
          <p:cNvSpPr/>
          <p:nvPr/>
        </p:nvSpPr>
        <p:spPr>
          <a:xfrm>
            <a:off x="2268360" y="6165720"/>
            <a:ext cx="6875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G-ABKZ DH PussMoth and camel, desert, Palestine 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 (2008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원본 크기의 사진을 보려면 클릭하세요"/>
          <p:cNvPicPr/>
          <p:nvPr/>
        </p:nvPicPr>
        <p:blipFill>
          <a:blip r:embed="rId2"/>
          <a:stretch/>
        </p:blipFill>
        <p:spPr>
          <a:xfrm>
            <a:off x="0" y="1773360"/>
            <a:ext cx="91645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http://www.hobotraveler.com/208-asia/207-034-long-tail-boat-thailand-isla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TextBox 4"/>
          <p:cNvSpPr/>
          <p:nvPr/>
        </p:nvSpPr>
        <p:spPr>
          <a:xfrm>
            <a:off x="687600" y="333360"/>
            <a:ext cx="385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Long-Tail Boat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in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Thaila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크리올 기술과 근대화의 문제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크리올 기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대규모 산업의 생산품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동차 엔진과 굴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전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멘트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골함석 등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 지역의 소규모 산업 결합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난한 도시의 성장은 부유한 세계에서 온 이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외관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구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 사용의 증가와 궤를 같이 함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간적으로 뒤쳐진 지역이 이미 근대를 달성한 서구를 추격하는 것으로서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근대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개념 성립하기 어려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!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한국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근대화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는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=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발명과 혁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비행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1903)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핵발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1945)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터넷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1965) 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의 역사를 발명의 연대기로 축약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혁신 중심의 역사는 오늘날 중요하다고 여기는 몇몇  기술이 발명되고 개발되던 초기 단계에만 초점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 기술들의 중요성에 대한 비판적 검토 부족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난한 나라의 기술에 대해서는 상대적으로 소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438086"/>
                </a:solidFill>
                <a:latin typeface="Georgia"/>
              </a:rPr>
              <a:t>과연 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20</a:t>
            </a:r>
            <a:r>
              <a:rPr b="0" lang="ko-KR" sz="2800" spc="-1" strike="noStrike">
                <a:solidFill>
                  <a:srgbClr val="438086"/>
                </a:solidFill>
                <a:latin typeface="Georgia"/>
              </a:rPr>
              <a:t>세기 가장 중요한 기술은 무엇이었는가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사용 중인 기술들에 대한 주목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옛 것과 새 것의 공존으로서의 현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기에 사용된 기술에는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전기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자동차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우주선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핵발전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인터넷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피임약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뿐 아니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인력거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콘돔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말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재봉틀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물레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초경합금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공구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자전거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골함석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시멘트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석면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DDT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전기톱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등도 포함되어 있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현대 기술의 다양한 모습을 간직한 가난한 지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난한 나라의 도시의 현재 모습은 부유한 도시의 과거와도 현재와도 같지 않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의 확산과 보급의 역설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새로운 기술이 등장했다고 옛 기술이 금방 사라지는 것은 아니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오히려 증가할 수도 있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새로운 기술은 혁신이 일어난 직후 매우 금방 세계 곳곳에 나타나는 반면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새로운 기술의 보급률은 지역별 소득에 의해 결정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간에 따른 경제 개발은 과거 서구가 사용했던 기술을 복제할 수 있도록 해주긴 하지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같은 경제 수준이 같은 기술의 사용을 보장하지는 않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서구의 예전 경제수준에 도달한 지역들이 서구의 과거 모습을 복제하고 있지는 않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! 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말이 가장 많이 사용된 시대는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수송을 위한 말의 사용은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세기 초에 정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경제개발과 도시화는 더 많은 수의 마차 필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철도와 운하의 교차점에 지어진 수많은 마구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농업을 위한 말의 사용은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세기 초중반에 정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핀란드의 말 개체수는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95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대에 정점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기 초 영미 경작지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/3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은 말 유지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,2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차 세계 대전에서 말의 사용은 꾸준히 증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현대전에 필요한 엄청난 양의 물량 수송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히 철도의 종점에서 전선까지 운반하는 데 이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가난한 도시의 판자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00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경 세계 최대의 도시는 대부분 가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브라질 상파울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멕시코시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필리핀 마닐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도 뭄바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도 델리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파키스탄 카라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도네시아 자카르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나이지리아 라고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방글라데시 다카 등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말의 도시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차나 방적기의 도시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아니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거대 전기나 화학 산업의 도시도 아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”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거대 도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급속한 도시화의 동력은 다양한 판자촌의 성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파벨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센타미엔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푸에블로 요벤스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비참하지만 엄청난 규모의 유지능력을 갖춘 곳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39640" y="836640"/>
          <a:ext cx="8136000" cy="5626080"/>
        </p:xfrm>
        <a:graphic>
          <a:graphicData uri="http://schemas.openxmlformats.org/drawingml/2006/table">
            <a:tbl>
              <a:tblPr/>
              <a:tblGrid>
                <a:gridCol w="1355760"/>
                <a:gridCol w="2028960"/>
                <a:gridCol w="1295280"/>
                <a:gridCol w="1081080"/>
                <a:gridCol w="1224000"/>
                <a:gridCol w="1150920"/>
              </a:tblGrid>
              <a:tr h="380880">
                <a:tc>
                  <a:txBody>
                    <a:bodyPr lIns="3816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5b5b5b"/>
                          </a:solidFill>
                          <a:latin typeface="돋움"/>
                        </a:rPr>
                        <a:t>국가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16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3816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5b5b5b"/>
                          </a:solidFill>
                          <a:latin typeface="돋움"/>
                        </a:rPr>
                        <a:t>도시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16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3816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5b5b5b"/>
                          </a:solidFill>
                          <a:latin typeface="돋움"/>
                        </a:rPr>
                        <a:t>인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16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3816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5b5b5b"/>
                          </a:solidFill>
                          <a:latin typeface="돋움"/>
                        </a:rPr>
                        <a:t>면적</a:t>
                      </a:r>
                      <a:r>
                        <a:rPr b="1" lang="en-US" sz="1600" spc="-1" strike="noStrike">
                          <a:solidFill>
                            <a:srgbClr val="5b5b5b"/>
                          </a:solidFill>
                          <a:latin typeface="돋움"/>
                        </a:rPr>
                        <a:t>(k</a:t>
                      </a:r>
                      <a:r>
                        <a:rPr b="1" lang="en-US" sz="1600" spc="-1" strike="noStrike">
                          <a:solidFill>
                            <a:srgbClr val="5b5b5b"/>
                          </a:solidFill>
                          <a:latin typeface="돋움"/>
                        </a:rPr>
                        <a:t>㎡</a:t>
                      </a:r>
                      <a:r>
                        <a:rPr b="1" lang="en-US" sz="1600" spc="-1" strike="noStrike">
                          <a:solidFill>
                            <a:srgbClr val="5b5b5b"/>
                          </a:solidFill>
                          <a:latin typeface="돋움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16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3816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5b5b5b"/>
                          </a:solidFill>
                          <a:latin typeface="돋움"/>
                        </a:rPr>
                        <a:t>인구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16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3816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5b5b5b"/>
                          </a:solidFill>
                          <a:latin typeface="돋움"/>
                        </a:rPr>
                        <a:t>기준년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16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52884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okyo-Yokoh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2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ew York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8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6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raz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ao Pa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7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9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uth Ko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eoul-Inch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5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x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xico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4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992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saka-Kobe-Ky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42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5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hilli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75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3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umbai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35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96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elhi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3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Jaka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25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ig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ag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34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8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lkota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27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3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gy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a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22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판자촌의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재료들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재료의 이름을 딴 판자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모로코의 비돈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랍의 무둔 사피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더반의 이미존돌로스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세기 전세계적으로 가장 중요했던 재료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함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연도금철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양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주석도금철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석면 시멘트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슬레이트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 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값쌈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벼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간편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긴 수명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좋은 단열 성능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석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7:21:55Z</dcterms:created>
  <dc:creator>zolaist</dc:creator>
  <dc:description/>
  <dc:language>en-US</dc:language>
  <cp:lastModifiedBy>zolaist</cp:lastModifiedBy>
  <dcterms:modified xsi:type="dcterms:W3CDTF">2010-12-08T06:57:05Z</dcterms:modified>
  <cp:revision>25</cp:revision>
  <dc:subject/>
  <dc:title>현대 기술은 모두 첨단 기술인가?</dc:title>
</cp:coreProperties>
</file>